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5896-42E7-43A2-939E-898792BF9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2264-8281-48A5-B253-5EDBFF550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0F5F-977A-4211-A5FF-44CFA3A91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BB64-0CCB-447D-8794-0E36B8E66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DA42-4B48-48EE-A44D-C889BD697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B800-44A9-43C2-9929-88E04430B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B7B7-FF54-49B8-A291-E64DD9547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1C60-A7B9-48CD-946F-2EBE27855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C68C-28D9-455D-AE24-C323C7C97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F622-6FA9-4D55-A53F-9A4C1F0C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57AC-63AB-41FF-A9AE-6706BE489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74CF-EF94-457B-82D6-E9608F9EE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C87C2-51B2-437B-829D-9B2FDFA5A0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9/96/De_Morgan_Medea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ctorian Era Art and Mus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31244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ica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-Raphael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estheticis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410800" y="4191120"/>
            <a:ext cx="3566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hard Strau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bert Par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me Ethel Smy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r Edward El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external image 7959-mystery-painting.jpg"/>
          <p:cNvPicPr/>
          <p:nvPr/>
        </p:nvPicPr>
        <p:blipFill>
          <a:blip r:embed="rId1"/>
          <a:stretch/>
        </p:blipFill>
        <p:spPr>
          <a:xfrm>
            <a:off x="609480" y="3124080"/>
            <a:ext cx="3657600" cy="33339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File:De Morgan Medea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15000" y="1066680"/>
            <a:ext cx="168264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00:22:53Z</dcterms:created>
  <dc:creator>Don H</dc:creator>
  <dc:description/>
  <dc:language>en-US</dc:language>
  <cp:lastModifiedBy>Don H</cp:lastModifiedBy>
  <dcterms:modified xsi:type="dcterms:W3CDTF">2009-12-08T00:23:19Z</dcterms:modified>
  <cp:revision>1</cp:revision>
  <dc:subject/>
  <dc:title>Victorian Era Art and Music</dc:title>
</cp:coreProperties>
</file>